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CBE-21D2-4085-BDE7-A42255AF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889-192A-4F23-8B9E-75D74332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CCB-E30A-45D6-9E97-97F834AB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F95-8231-490C-87C4-8698E5E0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6835-7CCF-4C4F-B524-7A675ECC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9D04-37DB-4E80-A513-2394E433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B269-2CA7-48CD-AB01-EB670B30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B1C1-EA78-4B59-B96B-F294EC00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8DD0-88C2-4FAD-8B56-C57FB300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DCE9-A9B1-4657-82A3-6D8C1813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2321-CECF-4F3D-9CAC-13B5A253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796-C975-4D3A-95B6-48208F48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AD12-B54E-4ED1-AA66-D6289BA3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E441-62F4-493D-97FD-A49B2252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7451-312F-442C-A12B-6FAD771D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AB5A-9F29-40E8-9A3C-E5A25761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59FF-2F1E-4483-9AFC-EEC61938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6C35E-4CAD-4178-BAD6-3D2DE144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D6E26-9A37-4475-B13B-FCE0B92E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ECD59-6188-4495-919A-636D67A5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C7FD4-0448-4089-8179-8EE6228C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BB559-AA12-438E-88C3-6D3B33EF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D17-6789-44A6-BA4A-F76AC02D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D524A-5301-43D2-9F5C-5B886FE2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AE8B8-0AE4-4E44-9336-D9315FCA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73356-BD40-4C12-BD64-DC1787B4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36291-C45A-4336-8D68-BD7C2522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667DF-27B4-4746-8887-3804A1DA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5441C-7893-40B8-B626-8827016A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B3CBE-3162-4085-B64C-CFE5D70D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61B2D-7205-4040-8EF4-13570BBB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CFB33-C828-4458-8BCC-EA13E10E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9C6F0-3755-4C00-ABCD-4AF50992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8AE-FA37-42A5-83FC-C2BEFC22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C7F9-6B02-4D19-994C-014D2E62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6B7C1-7383-452E-AE83-5FAF6F98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7FFB9-E55D-4119-8B61-E3EDDF30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68A2-B764-4B60-A895-94DF85D0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48FA6-998C-4589-A252-9845390F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CFE7-BB02-4852-94DC-3CA7D63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DF17-7B7F-40B4-9BAD-C78BD91B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D7C1-AB66-4240-827B-27C81521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7CFA1-A987-4D46-9DB9-BF4147AD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306-F8C4-49C6-9AD6-1A6DE6EA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AF6-648C-492E-9423-1E8833AD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729-6FF8-4DBA-86B8-8E2EF10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266-E20F-4171-AE51-E799AE47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643-F562-4C3A-AC1B-557423F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6E0E-1102-4C2A-9BC6-CCB9E40B154B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16C5-EB12-4FA4-A0D0-CB18667DA1F7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FC1A-6F6C-43CC-B4E7-735D95119F5D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7DB-046E-4AE0-A616-3059BC3CE124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rwMWPLlQ3nXfGM&amp;tbnid=12qTD16l8kHpgM:&amp;ved=0CAUQjRw&amp;url=http%3A%2F%2Fwww.city-data.com%2Fforum%2Fphotography%2F493951-balloons-hot-air-balloons-2.html&amp;ei=Wj41Uey4L5O40QGRkIC4CQ&amp;bvm=bv.43148975,d.dmQ&amp;psig=AFQjCNFhXrzpqKqTtYkZbe5dK9pJjVPAwA&amp;ust=136253023470406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YwyKmzEJ9d9tM&amp;tbnid=lZTBywHJcXgl7M:&amp;ved=0CAUQjRw&amp;url=http%3A%2F%2Fwww.kalipedia.com%2Fecologia%2Ftema%2Fequivalencia-escalas.html%3Fx%3D20070924klpcnafyq_21.Kes%26ap%3D0&amp;ei=Fz81UbPdIeu30AGR0IDIDg&amp;bvm=bv.43148975,d.dmQ&amp;psig=AFQjCNGCuxyZsz9CxctAiIFS1wC7Oi9DVw&amp;ust=1362530445848583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7_iZK3UNdpZ0SM&amp;tbnid=E8PCK6bM1Q2jKM:&amp;ved=0CAUQjRw&amp;url=http%3A%2F%2Fandeducation.co.uk%2FScience-Active%2Fmatterweb%2Fparticles.htm&amp;ei=lz01UcG6DIrL0wGQhoC4Bg&amp;bvm=bv.43148975,d.dmQ&amp;psig=AFQjCNFgEzdZ3JKyVsa-ligIvyhXBARoGQ&amp;ust=1362529989151435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xJ0Tjr3_ePdSM&amp;tbnid=LLzAoqUYOjJyNM:&amp;ved=0CAUQjRw&amp;url=http%3A%2F%2Fen.wikipedia.org%2Fwiki%2FBrownian_motion&amp;ei=wT81Udr_BurB0QHdv4CYAQ&amp;psig=AFQjCNF1bNZsM4ggpk6lcfDo2IHQDHyh-A&amp;ust=1362530607519517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itannica.com/EBchecked/media/95584/The-atmospheres-of-planets-in-the-solar-system-are-composed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hapter 10</a:t>
            </a:r>
            <a:endParaRPr b="0" lang="en-US" sz="44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Microsoft Sans Serif"/>
              </a:rPr>
              <a:t>Kinetic Models of Liquids and Solids</a:t>
            </a:r>
            <a:endParaRPr b="0" lang="en-US" sz="36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terparticle forces in a liquid maintain their volume, but not their shap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particles of a liquid can slide past each other, but they are so close together that they don’t move straight or smooth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trong forces between particles explain the rigid structure of solid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is arrangement is called a crystal lattice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Particles of a solid cannot move past each other, but they bounce off of one anoth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Other Form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Materials called liquid crystals lose their rigid organization in only one or two dimensions when they melt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terparticle forces are relatively weak, and they can flow like a liquid when the lattice is broke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n amorphous materia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 has a haphazard, disjointed, and incomplete crystal lattic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plasma is an ionized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t can conduct electrical current, but it is electrically neutral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y is the air inside a hot air balloon heate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41" name="Picture 5" descr="http://www.city-data.com/forum/attachments/photography/44958d1247413674-balloons-hot-air-balloons-balloon-pics-0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200400"/>
            <a:ext cx="4027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material is a measure of the average kinetic energy of particl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s temperature increases, kinetic energy also increases and vice versa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ould kinetic energy ever be zero?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temperature at which a substance would have zero kinetic energy is called absolute zero.</a:t>
            </a:r>
            <a:endParaRPr b="0" lang="en-US" sz="2400" spc="-1" strike="noStrike">
              <a:solidFill>
                <a:srgbClr val="53548a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elvin scale is defined so that the temperature of a substance is directly proportional to the average kinetic energy of the particl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Convers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Kelvin to Celsiu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elsius = Kelvin -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elsius to Kelvi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Kelvin = Celsius +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46" name="Picture 5" descr="http://www.kalipedia.com/kalipediamedia/cienciasnaturales/media/200709/24/fisicayquimica/20070924klpcnafyq_8.Ees.SC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2096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ass, Speed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wo gases at the same temperature will have the same kinetic energy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the gases have the same mass, then they will also travel at the same spee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one gas is lighter than the other, the lighter gas will travel faster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iffusion is the process by which particles of matter fill a space because of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eavier particles diffuse more slowly than lighter one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freezing point of water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melting point of ice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1" name="Picture 5" descr="http://www.personalrefrigeration.co.uk/images/PR%20images/melting_ice_cubes.jpg"/>
          <p:cNvPicPr/>
          <p:nvPr/>
        </p:nvPicPr>
        <p:blipFill>
          <a:blip r:embed="rId1"/>
          <a:stretch/>
        </p:blipFill>
        <p:spPr>
          <a:xfrm>
            <a:off x="3657600" y="3352680"/>
            <a:ext cx="5067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vaporation is the process by which particles of a liquid form a gas by escaping from the surfac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area of the surface, temperature, and humidity affect the rate of evaporat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Liquids that evaporate quickly are volatile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ocess by which particles of a solid escape from its surface and form a gas is called sublim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4" name="Picture 5" descr="http://www.aboutcivil.org/imajes/evaporation.jpg"/>
          <p:cNvPicPr/>
          <p:nvPr/>
        </p:nvPicPr>
        <p:blipFill>
          <a:blip r:embed="rId1"/>
          <a:stretch/>
        </p:blipFill>
        <p:spPr>
          <a:xfrm>
            <a:off x="4168800" y="4724280"/>
            <a:ext cx="38098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 of State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ondensation is the process of gas particles coming closer together (condense) and form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essure of a substance in equilibrium with it’s liquid is called its vapor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Volatile substances have high vapor pressur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boiling point of a substance is the temperature of a substance when its vapor pressure equals the pressure exerted on the surface of the liquid (atmospheric pressure)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energy absorbed when 1 kg of a liquid vaporizes at its normal boiling point is called its heat of vaporiz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joule is the SI unit of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Burns from steam are usually more severe than burns received form hot water.  This is because the steam transfers a great deal  of heat to the skin when it condens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containers of liquid.  Which container has the greater volume of liqui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balloons.  Which balloon has the greater volume of gas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melting point is the temperature of the solid when its crystal lattice begins to fall apart to become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liquid when it begins to form a crystal lattice and becomes a solid is called its freezing point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released as 1 kg of a substance solidifies at its freezing point is called its heat of fus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hysical Behavior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re is a close relationship between the physical state of a substance and its temperat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You will discover that the state of any matter is determined by the motion of its particles and the attractive forces between them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State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868400"/>
            <a:ext cx="8534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solid is rigid with a 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olids are rigid because the atoms, ions, or molecules that make up a solid are fixed in place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liquid is flowing matter with a definite volume but an in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A liquid takes the shape of its container because the particles of a liquid can move and easily glide over each o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gas is flowing, compressible matter that has NO definite volume or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e particles that make up a gas are much farther apart, so they can be easily pushed toge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2" name="Picture 5" descr="http://andeducation.co.uk/Science-Active/matterweb/img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4876920"/>
            <a:ext cx="5051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constant, random motion of tiny chunks of matter is called Brownian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kinetic theory states that submicroscopic particles of matter are in constant,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of moving objects is called kinetic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5" name="Picture 5" descr="http://upload.wikimedia.org/wikipedia/commons/6/6d/Translational_mo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029200"/>
            <a:ext cx="19382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Gas particles do not lose kinetic energy when they collide with the walls of their container or with another gas particl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gas particle rebounds without losing speed but in a new directio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ollisions of particles in a gas are called elastic collisions because no kinetic energy is lost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gas with particles that are in constant random motion but have no attraction for each other is called an ideal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deal gases undergo elastic collisions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924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xcept at very low temperatures or very high pressures, nearly all real gases behave as ideal gas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inetic theory explains why gases fill their container and why they exert pressure on the walls of the contain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gas particles move randomly in all directions until they strike the walls or other particles and bounce back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44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ry to lift the mat off of the lab table in the back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an you do i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force is acting on the ma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32" name="Picture 5" descr="http://media-2.web.britannica.com/eb-media/98/74598-050-EAACFFD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19720"/>
            <a:ext cx="285768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ore on the 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essure is the force acting on a unit area of a surface (the force per square centimeter)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arth’s atmosphere, which is a mixture of gases, exerts a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tmospheric pressure is caused by the constant bombardment of the molecules and atoms in ai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3:23:40Z</dcterms:created>
  <dc:creator> </dc:creator>
  <dc:description/>
  <dc:language>en-US</dc:language>
  <cp:lastModifiedBy>Dawn</cp:lastModifiedBy>
  <dcterms:modified xsi:type="dcterms:W3CDTF">2013-03-05T00:45:32Z</dcterms:modified>
  <cp:revision>35</cp:revision>
  <dc:subject/>
  <dc:title>Chapter 10</dc:title>
</cp:coreProperties>
</file>